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68281"/>
        <c:axId val="61902470"/>
      </c:barChart>
      <c:catAx>
        <c:axId val="17468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02470"/>
        <c:crosses val="autoZero"/>
        <c:auto val="1"/>
        <c:lblAlgn val="ctr"/>
        <c:lblOffset val="100"/>
        <c:noMultiLvlLbl val="0"/>
      </c:catAx>
      <c:valAx>
        <c:axId val="61902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68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C00-8A28-41C9-8731-CB435BA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76E-90ED-4DF8-B293-EF0ACF1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62B-84F9-4D10-A260-0FA2423B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7C8-1F19-4752-9764-29DEACF7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F52-CEF9-4610-BB2D-8C85F3E3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3A3-DAC4-4702-BD48-04EFD099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158-16B9-4B96-A657-A1595601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5D9-410C-45AD-A583-1B3F0290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EF8-4FD7-4562-B939-35925A85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459-CA0E-4A81-BD7D-45C247D5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F76-E677-4848-9EF7-4CA736CE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101-6968-4E62-871D-C2B2401D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32CD3-B071-4FB4-A905-530E7BE7C2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