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41359"/>
        <c:axId val="31955324"/>
      </c:barChart>
      <c:catAx>
        <c:axId val="77641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55324"/>
        <c:crosses val="autoZero"/>
        <c:auto val="1"/>
        <c:lblAlgn val="ctr"/>
        <c:lblOffset val="100"/>
        <c:noMultiLvlLbl val="0"/>
      </c:catAx>
      <c:valAx>
        <c:axId val="31955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41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DB9-F97A-4DB9-89E1-FAA05206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420-E1E1-4CEA-8765-9C274808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8D5-DFB0-4A65-AC8E-68CFDC33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1C9-D2AF-46F9-A1DF-C2B05CB07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857-919E-4D68-9191-939E4CE2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589-D9D5-415D-9ACA-F17D96144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1FA-8C4F-4CF7-9AA0-3B768105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4824-086A-4C0F-9277-0D4D2051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F8B-0F80-43C4-87B1-34A132EF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90A-BF6B-4AEA-9220-71D81F9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56E-7657-4A5C-B9D4-0A2E581C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B6D-F937-4A1A-92DD-23FFD9A1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F806-BF65-4D16-AA83-A3367D24D0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