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053711"/>
        <c:axId val="40721426"/>
      </c:barChart>
      <c:catAx>
        <c:axId val="48053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21426"/>
        <c:crosses val="autoZero"/>
        <c:auto val="1"/>
        <c:lblAlgn val="ctr"/>
        <c:lblOffset val="100"/>
        <c:noMultiLvlLbl val="0"/>
      </c:catAx>
      <c:valAx>
        <c:axId val="407214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53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13A-1E36-479F-8F9B-CA144057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4082-C42A-4DD8-8088-56B062CB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F60-DAF3-49B3-97D1-65961027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E4F-53F7-42FC-A960-38B78980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7326-352E-4290-B3E7-48BD2957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EFA4-D397-4A0B-B820-DD178D33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61E-4007-4CC3-9C5C-5FBD96CD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7B6-76F7-45C5-967A-A33CA942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BA5E-EFF2-42F3-9C8A-03ED4C14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DF6E-6CCA-4493-8A70-2365BFD2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D25-E529-4B48-A6A7-D4AF606B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759-B07E-431E-9705-96CF094B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90565-F6EC-49A2-97E3-8AB13B8A6A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