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83722"/>
        <c:axId val="74506604"/>
      </c:barChart>
      <c:catAx>
        <c:axId val="48783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06604"/>
        <c:crosses val="autoZero"/>
        <c:auto val="1"/>
        <c:lblAlgn val="ctr"/>
        <c:lblOffset val="100"/>
        <c:noMultiLvlLbl val="0"/>
      </c:catAx>
      <c:valAx>
        <c:axId val="74506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83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BA1-117E-49DD-B3B3-12222FA6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366-DC5A-4E96-9BDA-900C3F3C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C34-2133-464C-AE70-88052652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F87-1928-42EA-81F3-59E7011C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1DF-C70C-4330-AE4E-01FBA629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8E1-A6FD-48F6-85F9-3E2D9B41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24B-9D5B-41BA-A7C7-40348C94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732-968B-441B-B499-3E11AC94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2AC-4E32-4919-985E-B68D9AAC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8FF-7B2D-44FA-AC9F-BE6F25AB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15E-CF5A-4BB1-B852-B216D5E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605-2EDC-47A7-8D1D-63FCDA9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382B6-AD1E-4E8A-98AD-A148F0C0C0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